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218-9745-4B0A-97AF-0D063912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A42-E3B0-44A5-B938-BDAC7F54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3C3-6EF3-42F3-A140-613B57C7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B9B-42DA-4D5B-B2ED-5A0133E8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58F-1716-40C7-9CD4-1A7E052B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DA5-82CC-496A-AF1A-A5BFD0D8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46A-1298-4C19-9BF0-20B90002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7A9-643B-4FE9-BC80-3560BFF9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941-F2E9-485D-9C2D-6C47B9AD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39C-7621-406A-B671-3C68D6AC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470-2D86-4371-9916-555F992F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9BB-1A9B-4510-9114-166AFAE1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9B18-6CCA-446B-BFAB-F6DC6C3FA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: Less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ffects Your Heal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ttitud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glass half empty or half f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have control over your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healthful behavi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an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media affect your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ed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an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, brainstorm a list of valid health information sites that you may have explored in the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examples with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Activit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ver’s family has a history of heart disea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eps might he take to protect his health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areas of his health can overcompensate for the history of heart dis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bulleted list with a part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heredit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nvironment.  What are the three types of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wo ways that media and technology may influence your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Vocabul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uences on your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seases and conditions run in your fami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 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hat affect heal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your social environment affect your health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ideas as 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6:02:22Z</dcterms:created>
  <dc:creator>sroberts</dc:creator>
  <dc:description/>
  <dc:language>en-US</dc:language>
  <cp:lastModifiedBy>sroberts</cp:lastModifiedBy>
  <dcterms:modified xsi:type="dcterms:W3CDTF">2010-09-02T14:50:50Z</dcterms:modified>
  <cp:revision>6</cp:revision>
  <dc:subject/>
  <dc:title>Chapter 2</dc:title>
</cp:coreProperties>
</file>